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0B8E-2D4F-4FCB-B6E3-B6E91A037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5D71-0FB7-4459-A9E7-71F6F7DD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AD5D-5E9D-4482-853C-BA8D2FE8B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BFA9-CDF6-4829-8158-44361A0BE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BEF6-7D2C-4BFE-9551-8BAE82105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F8D8-D222-4243-942B-901D0C4E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4DF7-DECA-4E9D-B275-315E942D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E421-61E5-4E63-87B0-081B3E77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E508-CAD7-4183-BF33-124068C4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2832-BC96-46B1-A4BF-0B7C60DF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FB42-09E0-4146-99FD-7FB932ED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33D9-5950-42DC-950D-E575E4EE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5F2C-4D6D-448B-A997-65207FA8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8664-CF7D-48C1-BC56-492E99D0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C74F-518D-4897-9C63-0F988ECC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B179-1237-4DCE-935D-CAEB4B77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59DE-C0DA-4D25-A23A-04663C82F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65F3-F27E-4D53-8BF6-22D74BC4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831F-0789-40A0-927B-34EBBC6B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DEFC-F756-477A-9A43-AEDA8298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CABB-FD40-499F-9032-F7BCA520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90BF-E043-43A3-B29F-2FAF5D49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1EF6-B3ED-4550-9F73-66E93918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0589-3368-4817-A939-BC1345A5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CE38-0EB7-4BB7-AB3F-A0FEBFEB79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713F-FED7-4375-ADBE-A4508A5B82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sonal Responsibility and  Decision Making </a:t>
            </a:r>
            <a:br>
              <a:rPr sz="48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1 Taking Responsibility for Your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ell Activity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t’s your responsibility,” what does this mean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t least 5 statements in response to the sta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x: I have to make a ch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ng dependable and reliabl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aking Responsibility for Your Act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sponsibility- is the ability to make choices and to accept the results of those cho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2:18:17Z</dcterms:created>
  <dc:creator>GSCS</dc:creator>
  <dc:description/>
  <dc:language>en-US</dc:language>
  <cp:lastModifiedBy>GSCS</cp:lastModifiedBy>
  <dcterms:modified xsi:type="dcterms:W3CDTF">2011-09-09T16:33:26Z</dcterms:modified>
  <cp:revision>8</cp:revision>
  <dc:subject/>
  <dc:title>Slide 1</dc:title>
</cp:coreProperties>
</file>